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136-4BD1-4125-BF41-CA4FC506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843-9822-4324-96A1-33B9D0D3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77D-0EB8-4515-96DA-0B0C8DBA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C51-A537-44DF-9386-F9708CA4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0E76-E1E8-43D1-925B-9A8D4711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2BC7-23E6-4C37-8115-B7FF60ED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5EFD-97C5-4379-96C9-FCCE75AB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435B-D777-4096-BFFD-B5171A4F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922E-F2A1-4780-AFC7-9E889B9A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ACF8-09DC-4C9B-98F6-EBF05A5B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3FFB-A955-4560-840B-9C549FE9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355-6D8C-4D46-ADBC-5932EF29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74C0-E44F-46AD-995C-6388A476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FFDA-BAE8-44E5-A26F-78C6635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31D9-2A56-43C5-8A9E-156671B0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3EF0-1393-4D17-A8CA-1D69A4C6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FA7A-AE54-4B8B-8EFA-AC86D7A1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9CCF5-EDFF-4F12-A0B0-97BE31F3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2A82A-5012-4BD8-8E40-D8EE223B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B5849-B79C-4545-A878-D94805AF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EC575-42C8-4C5A-8874-C62FC0E6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9ADF3-6BB1-4FE5-8072-89DC1123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50A-3774-43AA-ADD8-8F7F5102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89C9D-C3A9-45B9-8CF8-B6E4CA96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109DF-8416-436F-9754-6A166C14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2C8E7-8FD6-4AF9-AFE3-0EE320F0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41614-99EC-4252-9890-AD73630E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F4E88-79D3-4705-A363-753BBCC3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87BEB-AC22-4EE0-A9CD-D156EEBA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E69B3-E61A-4689-9F18-D9D9AF21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2F0F-E447-4A45-BDD4-EECFDFE2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05944-FED8-436B-93E5-2BF554D8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CDFD-FA7F-4153-8C26-DFE8D1DC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B62-5D67-4FB0-8F18-43972C1D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E96E-1B4B-4B69-B8BF-8D15563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DADF-8489-4AEA-BBB9-7ED026A4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FBCD-6C8E-45FC-A955-10036D08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F9083-541F-4FBC-8E3B-C10FBAA7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7F41-8B35-4252-995E-14D958F0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D9AFE-00CD-40F1-AE53-10EDC841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1236C-11C6-4BD5-803A-95D841FA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F0A1C-DF68-4FE5-BA28-03FED739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B183-F51A-4F70-A417-E4217BC2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329-5B7D-4388-B14B-1BDB49F2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59C-51CA-490C-A721-3FA59CB2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5BD-E84A-4855-A061-8BFB527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6DD-652D-4F96-9CD4-F8DA4D87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2FD-7F6E-4AB1-BB47-8F78CBA4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685E-2A5F-4F90-99B2-C71054CF3918}" type="slidenum">
              <a:rPr b="0" lang="sl-SI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B509-AF1E-400A-8FD4-071054A01685}" type="slidenum">
              <a:rPr b="0" lang="sl-SI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D4F1-8AE6-4315-9072-E9876FBEC610}" type="slidenum">
              <a:rPr b="0" lang="sl-SI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333A-65D6-4F51-AFCC-AD4823E42777}" type="slidenum">
              <a:rPr b="0" lang="sl-SI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613720" cy="38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l-SI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OROČILO</a:t>
            </a:r>
            <a:br>
              <a:rPr sz="3600"/>
            </a:br>
            <a:r>
              <a:rPr b="1" lang="sl-SI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sl-SI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 delu Medobčinske LAS Velenje </a:t>
            </a:r>
            <a:br>
              <a:rPr sz="3600"/>
            </a:br>
            <a:r>
              <a:rPr b="1" lang="sl-SI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za leto 2013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sl-SI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sl-SI" sz="29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marec 2014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042560" y="1988640"/>
            <a:ext cx="6913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našim delom in programi še naprej sledimo  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anstvu LAS-a,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rega primarna naloga je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va na področju preprečevanja zasvojenosti za čim širšo populacijo,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vsem za mlade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868320" y="3176640"/>
            <a:ext cx="7088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2060"/>
                </a:solidFill>
                <a:latin typeface="Arial"/>
              </a:rPr>
              <a:t>L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okalna     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kcijska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kupina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12952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l-SI" sz="3600" spc="-1" strike="noStrike">
                <a:solidFill>
                  <a:srgbClr val="ff5b19"/>
                </a:solidFill>
                <a:latin typeface="Times New Roman"/>
                <a:ea typeface="Times New Roman"/>
              </a:rPr>
              <a:t>HVALA ZA POZORNOST!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4" name="Picture 5" descr="BS01197_[1]"/>
          <p:cNvPicPr/>
          <p:nvPr/>
        </p:nvPicPr>
        <p:blipFill>
          <a:blip r:embed="rId1"/>
          <a:stretch/>
        </p:blipFill>
        <p:spPr>
          <a:xfrm>
            <a:off x="3995640" y="367992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6300720" y="3174120"/>
            <a:ext cx="58676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2060"/>
                </a:solidFill>
                <a:latin typeface="Arial"/>
              </a:rPr>
              <a:t>L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ahko     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mpak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kupaj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l-SI" sz="38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26920" y="1483920"/>
            <a:ext cx="7561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Medobčinski LAS za preprečevanje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vojenosti z drogami,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 s svojim delovanjem pokriva območja občin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enje, Šoštanj in Šmartno ob Paki,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 v letu 2013 izvajali preventivne dejavnosti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ciljne skupine vseh starostnih obdobij,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poudarkom za mlade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5b19"/>
                </a:solidFill>
                <a:latin typeface="Times New Roman"/>
                <a:ea typeface="Times New Roman"/>
              </a:rPr>
              <a:t>Brezplačni preventivni programi:</a:t>
            </a:r>
            <a:br>
              <a:rPr sz="2800"/>
            </a:b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1773000"/>
            <a:ext cx="6777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ilje in droge med mladim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učence na O.Š. (71 u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govarjajmo se, prisluhnimo otroku in ne zatiskajmo si oč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srečanje za starše na O.Š.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ola za starše oz.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ci so naše največje bogastvo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 srečanj v Vili Mojca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žinska rekreacija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Vrtcu Velenje (v 5 enotah vrtca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5b19"/>
                </a:solidFill>
                <a:latin typeface="Times New Roman"/>
                <a:ea typeface="Times New Roman"/>
              </a:rPr>
              <a:t>Prireditev:</a:t>
            </a:r>
            <a:br>
              <a:rPr sz="2400"/>
            </a:b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55280" y="2060280"/>
            <a:ext cx="7201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 občinskem prazniku smo izvedli tradicionalno preventivno akcijo „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 OČKO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Na teku sodelovalo rekordnih 381 udeležencev, od teg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 očkov in 240 otrok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a 144 udeležencev več kot v preteklem letu)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udeležence teka smo pripravili majice z napisom za otroke: „Moj očka je ...” in za očete: „Aktivirani očka!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n dogodk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podbujanje aktivnega preživljanja časa očetov z otroki, ter ozaveščanje o pravicah očetov in pozitivnih vidikih očetovstva za otroke in starše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68000" y="836280"/>
            <a:ext cx="8064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f5201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2" name="Pravokotnik 1"/>
          <p:cNvSpPr/>
          <p:nvPr/>
        </p:nvSpPr>
        <p:spPr>
          <a:xfrm>
            <a:off x="826920" y="1052640"/>
            <a:ext cx="734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5b19"/>
                </a:solidFill>
                <a:latin typeface="Times New Roman"/>
                <a:ea typeface="Times New Roman"/>
              </a:rPr>
              <a:t>Zmanjševanje škode na področju drog: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 je tudi v letu 2013 podpisala najemno pogodbo za souporabo prostorov v Mestni četrti Desni breg za potrebe delovanj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evnega centra za zmanjševanje škode zaradi drog – Š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 deluje v Velenju že od sredine leta 2010. Skupno v Velenju 60 uporabnikov (18 več kot leto poprej), od tega 39 iz Velenja (9 več kot v preteklem letu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5b19"/>
                </a:solidFill>
                <a:latin typeface="Times New Roman"/>
                <a:ea typeface="Times New Roman"/>
              </a:rPr>
              <a:t>Finančno podprli tudi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nskih delavni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 se izvaja preko CSD Velenje v okviru Društva za preventivno delo v Ljubljani in poteka na velenjskih O. Š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nsko delo z zasvojenimi od prepovedanih dro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 ga vodi zavod Socio iz Celja. V letu 2013 opravili 53 stikov z uporabniki, ki imajo stalno prebivališče v MOV (kar je za 13 več kot leto pred tem)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2632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5b19"/>
                </a:solidFill>
                <a:latin typeface="Times New Roman"/>
                <a:ea typeface="Times New Roman"/>
              </a:rPr>
              <a:t>Društvo Projekt Človek tudi v Velenju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71640" y="2852640"/>
            <a:ext cx="7345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septembra 2013 deluj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CSD Velenje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ovna delavka z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oč zasvojenim iz Društva Projekt Človek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tovanje in pomoč osebam z različnimi oblikami zasvojenosti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ka vsak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o in tretjo sredo v mesecu od 13. do 17. ur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87280" y="10267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5b19"/>
                </a:solidFill>
                <a:latin typeface="Times New Roman"/>
                <a:ea typeface="Times New Roman"/>
              </a:rPr>
              <a:t>Raziskava o razširjenosti uporabe drog v Velenju in okolici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87280" y="2636640"/>
            <a:ext cx="67773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oktobru 2013 pričetek aktivnosti za izvedbo raziskave o razširjenosti uporabe drog v Velenju in okolici, v sodelovanju s Policijsko postajo Velenje, ter Sosvetom za izboljšanje varnosti občank in občanov Velenja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let je od zadnje takšne raziskave v našem okolju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eti bodo devetošolci vseh treh občin, dijaki 1. in 3. letnikov ŠCV, ter mladi brezposelni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6920" y="476280"/>
            <a:ext cx="7777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5b19"/>
                </a:solidFill>
                <a:latin typeface="Times New Roman"/>
                <a:ea typeface="Times New Roman"/>
              </a:rPr>
              <a:t>Druge aktivnosti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eležba na nacionalni konferenci ob mesecu preprečevanja zasvojenosti v Slovenj Gradcu</a:t>
            </a:r>
            <a:r>
              <a:rPr b="0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 osrednjim sloganom </a:t>
            </a:r>
            <a:r>
              <a:rPr b="0" i="1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Dovoljeno ni tudi varno“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eležba na delovnem srečanju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rstv</a:t>
            </a:r>
            <a:r>
              <a:rPr b="1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zdravje R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temo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 psihoaktivne snov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čini uporabe, tvegana vedenja in socialni kontekst pri slovenskih mladostnikih.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eležba na konferenci v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žavnem svetu R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r s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dstavil</a:t>
            </a:r>
            <a:r>
              <a:rPr b="0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disciplinarni</a:t>
            </a:r>
            <a:r>
              <a:rPr b="0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top pri oblikovanju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ih praks na področju zlorabe dro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itev in ogled terenskega vozila </a:t>
            </a:r>
            <a:r>
              <a:rPr b="0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zasvojene od prepovedanih drog iz Zavoda Socio Celje. Objava poročila o delu Medobčinske LAS Velenje v </a:t>
            </a:r>
            <a:r>
              <a:rPr b="1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manahu 2013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6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6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68803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5b19"/>
                </a:solidFill>
                <a:latin typeface="Times New Roman"/>
                <a:ea typeface="Times New Roman"/>
              </a:rPr>
              <a:t>Pregled realizacije finančnih sredstev na postavki LAS – Program za boj proti drogi v MOV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187280" y="2204640"/>
            <a:ext cx="6912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jeti  in veljavni proračun: 9.524,00 EU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čna realizacija: 8.043,46 EUR (84,5 %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jemne pogodbe za izvajanje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vnih programov: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.276 EU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nske delavnice: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.965 EU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 očkov: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818 EU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žinska rekreacija: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.191 EU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nsko delo z odvisniki od prepovedanih drog: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.000 EU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ola za starše: 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574 EU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k 1500 anketnih vprašalnikov za raziskavo LAS: 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219 EU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6:49:04Z</dcterms:created>
  <dc:creator>KSENIJA DREN</dc:creator>
  <dc:description/>
  <dc:language>en-US</dc:language>
  <cp:lastModifiedBy>dragicak</cp:lastModifiedBy>
  <dcterms:modified xsi:type="dcterms:W3CDTF">2014-03-06T08:34:45Z</dcterms:modified>
  <cp:revision>136</cp:revision>
  <dc:subject/>
  <dc:title>PREDSTAVITEV MEDOBČINSKE LAS VELENJE  (Mestne občine Velenje, Občine Šoštanj in Občine Šmartno ob Paki)</dc:title>
</cp:coreProperties>
</file>